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FCD-3FED-4317-A7A9-B1888BE9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3B2-59D7-4147-814D-097B421B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F4F-F2B6-4163-B5D5-451EEFAB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48E-2951-4403-95C1-9F473CCD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EEF-3F7B-4148-AC2E-9B7C6CAD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D1F-89F5-447A-8511-8F9489B2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6B5-062C-4290-8BE9-11FBB30D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CE0-93BB-4797-A8FF-17C55415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F5B-52CD-45A1-9C41-82C8C75A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9FD-1C49-4164-A23D-2D5C064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214-BDD1-462F-B859-839B7AE1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0F1-62B0-4988-A3C3-483140E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A8A8-8E04-4BAB-BFB0-C7A7BD2BC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170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2490840"/>
            <a:ext cx="57150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33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7:33:01Z</dcterms:created>
  <dc:creator>High School</dc:creator>
  <dc:description/>
  <dc:language>en-US</dc:language>
  <cp:lastModifiedBy>High School</cp:lastModifiedBy>
  <dcterms:modified xsi:type="dcterms:W3CDTF">2004-09-08T20:02:45Z</dcterms:modified>
  <cp:revision>4</cp:revision>
  <dc:subject/>
  <dc:title>Slide 1</dc:title>
</cp:coreProperties>
</file>